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233A918-9E55-4C92-9F20-9D694F3AFA5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59DCF71-3DEF-4F4A-97A9-132B2C9FE316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6118C5-CCE0-44BB-9B91-B8C60BDF0661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24C4216-29A6-495A-9A15-EC78E9AFCED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515A68A-F664-41C9-9499-E0543C51E03A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F4A298-BC48-45F9-B2DE-053F0A1FF2D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0C72818-7882-41F3-8E39-833911A2BAD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03F7D4E-97FF-49B7-A920-9A31BD901D6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12DC2C1-8827-48E6-A9E2-B70A61982B6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B59698C-2C11-40EE-8E92-184BF103B774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6E036B1-B8FD-4B33-8CF8-22972294DFF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D0766E9-34F1-4AC7-8BA1-48F7F70F9D46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F780B38-B89C-4012-A1D4-8738E9CA5906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traight Connector 3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3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B01E3B3-658F-4A40-8620-540A485F6FDC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traight Connector 3"/>
          <p:cNvSpPr/>
          <p:nvPr/>
        </p:nvSpPr>
        <p:spPr>
          <a:xfrm>
            <a:off x="4572000" y="1150920"/>
            <a:ext cx="0" cy="32828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BCBC4A2-5AFB-49E6-954D-0B430E6FCF2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AB16773-4971-4B5C-9189-0B082F3A3A1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5932258-929B-48B2-AC7D-EB006A596DBA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76CA810-760D-4044-8B87-866174CB6BFF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663560" y="-230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9DEB0BC-F39F-4410-8E61-E0FB99F51B3F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E8AA5DA-6036-44EC-847C-C4EA4363E16B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F65156C-8F30-4F36-8390-0FC29EB7E34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B021D5B-4471-4970-AB57-59FA27094559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noFill/>
          <a:ln w="19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4903462-6C10-4DC6-A3BD-496CD8CAC6BD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516E74D-2DC2-41E2-B762-7544BDDF83E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da400"/>
              </a:solidFill>
              <a:latin typeface="Lato Black"/>
              <a:ea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166860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50880" y="2869920"/>
            <a:ext cx="787392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03280" y="953640"/>
            <a:ext cx="53211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327120" y="442404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3327120" y="466848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650880" y="128124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graphicFrame>
        <p:nvGraphicFramePr>
          <p:cNvPr id="1015" name="Content Placeholder 3"/>
          <p:cNvGraphicFramePr/>
          <p:nvPr/>
        </p:nvGraphicFramePr>
        <p:xfrm>
          <a:off x="330120" y="1249200"/>
          <a:ext cx="849312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49200"/>
                    <a:ext cx="849312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380880" y="1258560"/>
            <a:ext cx="8391600" cy="314172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76240" y="1111320"/>
            <a:ext cx="740088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876240" y="2796840"/>
            <a:ext cx="74008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8f7f5"/>
              </a:solidFill>
              <a:latin typeface="Merriweather"/>
              <a:ea typeface="Arial Black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12880" y="716040"/>
            <a:ext cx="75182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095120" y="287316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95120" y="313524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2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  <property fmtid="{D5CDD505-2E9C-101B-9397-08002B2CF9AE}" pid="3" name="MediaServiceImageTags">
    <vt:lpwstr/>
  </property>
</Properties>
</file>